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EE6-B095-4339-9CCC-73A78D08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633-234C-4F1A-AC46-9E4B202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9BF-3DFC-42EF-93DC-4A3B58CB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C85-747B-46E4-8905-72843128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D660-51CC-412F-BC32-062646FD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6CA-E566-457F-88E0-20A8AF8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232B-2D52-448E-A52B-F829126A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960-45C5-4634-91BC-469EA54C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B066-3B4E-4194-8757-13CEC2ED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ED2-0405-4321-8404-8F87039E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D90B-F5EA-4B76-816D-53CC4CA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AF9-9B86-4C28-8718-53743E02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0923-FE56-4A13-AD0E-1A3845C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44C-EE5C-41DC-8173-CF2EEED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B87-26C6-49D2-864D-4E0B1EAE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A9B6-9BFF-47AA-B640-D089B371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2E87-97FA-4B1A-9135-7F1C1078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926-153A-419B-A2A9-5B393C64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5A4-D6F1-44B2-ACEC-5DED64C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819-01E2-4BFA-ADED-B644066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08C-657B-4158-A8E4-D0EAAF0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6E4-DE0E-461D-9E68-296B2A3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401-5974-4F0D-AA51-C8F2799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5DC-C1A6-4BCF-A980-8006856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6FD-FCFF-475A-B157-A7C18641FB7A}" type="slidenum">
              <a:rPr b="0" lang="en-C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8CC-C149-4001-AF0B-32D773ED6AA0}" type="slidenum">
              <a:rPr b="0" lang="en-C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5.statcan.gc.ca/cansim/a05?lang=eng&amp;id=1024505&amp;paSer=&amp;pattern=102-4505&amp;stByVal=1&amp;csid=" TargetMode="External"/><Relationship Id="rId2" Type="http://schemas.openxmlformats.org/officeDocument/2006/relationships/hyperlink" Target="http://www.statcan.gc.ca/bsolc/english/bsolc?catno=84F0210X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Unit Four – Parent-Child Relationships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Chapter Nine,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Ten &amp; Eleven – Parenthood Today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HS 4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and Families in a Diverse Socie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24160" y="2476440"/>
            <a:ext cx="441972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cision to Hav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62240" y="506736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760" y="43052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760" y="13334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ac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4040" y="125748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ial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4190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mi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43052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apter 9: Parenthood Toda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the Canadian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follow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of first-time par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# of children (F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en pregnancy 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al roles, styles and expec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06480" y="769680"/>
            <a:ext cx="553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s and total fertility rate, by province and territory </a:t>
            </a:r>
            <a:br>
              <a:rPr sz="1800"/>
            </a:br>
            <a:r>
              <a:rPr b="0" lang="en-US" sz="1000" spc="-1" strike="noStrike">
                <a:solidFill>
                  <a:srgbClr val="cc0000"/>
                </a:solidFill>
                <a:latin typeface="Courier New"/>
                <a:ea typeface="Courier New"/>
              </a:rPr>
              <a:t>(Fertility rat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806480" y="1447920"/>
          <a:ext cx="5585040" cy="4433760"/>
        </p:xfrm>
        <a:graphic>
          <a:graphicData uri="http://schemas.openxmlformats.org/drawingml/2006/table">
            <a:tbl>
              <a:tblPr/>
              <a:tblGrid>
                <a:gridCol w="2046240"/>
                <a:gridCol w="561960"/>
                <a:gridCol w="561960"/>
                <a:gridCol w="562320"/>
                <a:gridCol w="561960"/>
                <a:gridCol w="129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ertil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foundland and Lab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e Edward 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a Sco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Brunsw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b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t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skatchew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e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tish Colu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uk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west Territ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nav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tal fertility rate is the average number of children per woman.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atistics Canada, CANSIM, table </a:t>
                      </a:r>
                      <a:r>
                        <a:rPr b="0" lang="en-US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102-4505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and Catalogue no. </a:t>
                      </a:r>
                      <a:r>
                        <a:rPr b="0" lang="en-US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84F0210X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ast modified: 2011-04-2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e6e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66920" y="1461960"/>
            <a:ext cx="6410160" cy="3934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33"/>
                </a:solidFill>
                <a:latin typeface="Garamond"/>
              </a:rPr>
              <a:t>Total Fertility Rate</a:t>
            </a:r>
            <a:br>
              <a:rPr sz="2500"/>
            </a:br>
            <a:r>
              <a:rPr b="0" lang="en-CA" sz="2500" spc="-1" strike="noStrike">
                <a:solidFill>
                  <a:srgbClr val="006633"/>
                </a:solidFill>
                <a:latin typeface="Garamond"/>
              </a:rPr>
              <a:t> Canada: 1926-2006</a:t>
            </a:r>
            <a:br>
              <a:rPr sz="2500"/>
            </a:br>
            <a:r>
              <a:rPr b="0" lang="en-CA" sz="1300" spc="-1" strike="noStrike">
                <a:solidFill>
                  <a:srgbClr val="006633"/>
                </a:solidFill>
                <a:latin typeface="Garamond"/>
              </a:rPr>
              <a:t>Source: Statistics Canada, Demography Division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019920" cy="472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Human Resources Canada, 2003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1019160"/>
            <a:ext cx="58672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Labour Force Surveys – Statistics Canada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Human Resources Canada, 2010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392120"/>
            <a:ext cx="67816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33"/>
                </a:solidFill>
                <a:latin typeface="Garamond"/>
              </a:rPr>
              <a:t>Teen Pregnancy Rates, Canada and United States (1974 – 1997)</a:t>
            </a:r>
            <a:br>
              <a:rPr sz="2400"/>
            </a:br>
            <a:br>
              <a:rPr sz="1700"/>
            </a:b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Health Reports, Vol. 12, No. 1</a:t>
            </a:r>
            <a:br>
              <a:rPr sz="1700"/>
            </a:b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tatistics Canada, Catalogue 82-003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0292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Factors for Would-Be Parents to Consider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etal and social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conditions and personal fin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lings about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ychological read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from peers and family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0670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Biological C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he limits on behaviour determined by physical aging (the length of time a female is able to conce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Delayed Parentho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en couples put off having children until they are in their 30’s &amp; 40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Family W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economic concept that a man’s income should provide adequate money to support family – used to justify paying a female less than a m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86400" y="2055960"/>
            <a:ext cx="27432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ay, Maureen, Holloway,G., Witte, J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s and Families in a Diverse Societ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 Ryerson., Toro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Female Infantic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killing of female children immediately after bir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5.   Fertility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he average number of children born alive during a woman’s childbearing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Genetic Dise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hereditary diseases such as diabet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Infant Mortality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number of deaths of infants less than one year of age per 1000 bir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2055960"/>
            <a:ext cx="30481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Infert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unable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  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Lineag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ances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Steriliz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causing permanent infertility by removing or disabling reproductive org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 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Voluntary Childlessnes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deliberately decide not to become par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7840" y="1600200"/>
            <a:ext cx="3618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Attach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ehaviours that meet the need of an infant to maintain or attain proximity &amp; protection with a 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Authoritarian Pare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parental control and the use of reward &amp; punish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Authoritative Pare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armth, support, acceptance &amp; indirect positive control of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onstructive Pare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conflict that is managed in a non-aggressive &amp; productive man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57880" y="2055960"/>
            <a:ext cx="3176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Destructive Paren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conflicts that are managed in a hostile &amp; angry mann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7.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Insecurely Attached Infant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babies with a limited degree of attachment to their primary caregiv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8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Intact Famil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family in which both parents are in their first marriage &amp; have biological or adopted childr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Permissive Paren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the children have greater power than parents in family situatio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4120" y="2055960"/>
            <a:ext cx="32763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Securely Attached Infa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abies with a high degree of attachment to their primary caregi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hild Ab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en a child is abused by their caregi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hild Neg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covers wide range of parental behaviours; failure to provide necessities of life to adequate supervision, emotional neglect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ongenital Anoma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health problems that some children are born with that lead to d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00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4. 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Diminished Paren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lessened ability to parent due to stress (could come from divorce, etc.); increased emotional &amp; financial burdens as a result life’s pressur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Ecofeminist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feminist who believe that the domination of women is directly connected to the environmental destruction of nature – promote the interconnected web of lif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6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In Vitro Fertiliza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eggs are remove, then fertilized in lab, then returned to the women’s uteru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8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Perina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eferring to the period of time immediately after bi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Persistent Pover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poverty that last for a long time rather than a short term result of cri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939840"/>
            <a:ext cx="4419360" cy="219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3657600"/>
            <a:ext cx="4419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4:42:43Z</dcterms:created>
  <dc:creator>OCDSB User</dc:creator>
  <dc:description/>
  <dc:language>en-US</dc:language>
  <cp:lastModifiedBy>OCDSB User</cp:lastModifiedBy>
  <dcterms:modified xsi:type="dcterms:W3CDTF">2011-05-25T12:58:40Z</dcterms:modified>
  <cp:revision>16</cp:revision>
  <dc:subject/>
  <dc:title>Unit Four – Parent-Child Relationships Chapter Nine, Ten &amp; Eleven – Parenthood Today </dc:title>
</cp:coreProperties>
</file>